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gif" ContentType="image/gif"/>
  <Override PartName="/ppt/media/image9.png" ContentType="image/png"/>
  <Override PartName="/ppt/media/image13.png" ContentType="image/pn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6BE-1802-432A-9F93-524BADA8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C7F-CA10-4A3B-A869-ABD4B394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5E9-F79B-4E3A-93C1-CFC06847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6B5-56A0-4BC0-91D6-BB71DFF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5D0-77F0-494D-AE34-429662B2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CB42-3AE5-4CC0-A658-DE70C0D7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AF8-3B8F-4D27-9D38-E12973AA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C69E-F19F-4446-9FC2-C4A2E49D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7674-55C2-4107-B66B-2582EBAE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F1FC-967F-41F5-863E-0357AB91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F01F-8170-402A-9E64-2F22846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49A-163B-4022-8750-32970567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68EA-3AC7-4532-BDC2-E10C91CB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D8E-2507-43A2-BC3D-C5CD110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E5D0-790B-487F-9B98-5CD223B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6E22-6FE6-4708-8D34-92381E00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0A19-B23B-4D2E-B7BE-B295532B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6A914-4DDE-4335-A009-A9D62BA4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48936-3A62-4B83-9C60-BFD1ACF6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87247-655C-4FB7-BD83-4DC18AE0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2111B-D1AB-4938-88F2-2075E9C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5D16A-B258-4B47-A2A6-82F278E7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A85-054C-430C-8871-62F49C8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9DEA1-0A12-41DF-AB96-5782C3C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F58B0-77BF-43EB-B487-F7249AE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4330B-1759-4158-80DF-019D095E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1BF78-0296-4F4E-A46A-7D40F1F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A73C9-7B7C-4048-AB4E-F847CE41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2ACAD-A290-4967-8845-9D0E82FD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A6B15-18EC-4122-A149-73034FD0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766B-457E-432F-A588-3A2C5E71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65F7-BAEE-465A-BE5F-F8A02190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52D5-E3B7-4B8B-8A3A-36E16962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3B2-EB85-4C81-830B-09544F59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8748-ACA9-41B7-8546-495768BF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FEC28-C8DB-4E56-A649-0166183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E6805-2B6B-405D-8433-30195BD8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6BCF6-5B5E-465C-9D8E-3040672E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37E5-073A-41FA-B365-316C1F09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7276-B265-44E0-89C8-E71A4B8E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DA64-5D4B-4BB0-B81D-B33B5FB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A2E03-BA4F-4E9B-B54D-C65ACD79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F36A-C3B8-4B46-AC6E-C5279F6B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E197A-61C1-4651-B768-32ECFCA6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870-CE4F-40AB-A30A-977E1EE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DA32B-EDF2-4A09-AFC0-AEA3B04E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53E21-64BB-4DBD-A7BF-E2E9D72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9B94EF-949C-48FE-92C1-23A617A7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2C933-5A92-4323-890B-A55BFE7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13410-A4AD-44FE-B6CA-2DFD80E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88F9B-99EC-41E2-8B9B-F35CCD66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0A2E8-6C6D-4EC5-9EDB-FE8B11B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79B523-D789-4177-B216-E647E24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82A20C-CC83-4862-98A6-5F876C0B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137A4-BF79-4E78-89A0-CC1CC127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4B0-7AD6-4F4C-A6BE-CAF08CC8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F58C60-4A69-44C5-9ABF-A3E033BD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9BD4A-D7FA-4B86-91B4-AE22CB5D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865C2-E4D7-4306-B2A9-5330A176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9F8E3-F104-4B6A-B348-EB98A10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66C3E-E02E-44EF-AA80-A28F33EE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0B58D-BC4C-4478-A123-695E78A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A31A19-166F-4224-8EF8-C5D5202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2C480-84F7-4712-9389-55D8411A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E53F9B-2EE7-4F6D-BDC8-AADEB03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54BD7-842B-4363-A056-615AA0E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4A8-74F0-478C-AAD9-8935924F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842B43-2E84-4813-97AD-EF8D7ABA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0B481-ACFC-48DC-B8AB-BA153B3A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65D93-B1D7-4EF7-986C-F3015954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A8DF9-F7ED-4765-9F5E-ADAB5B2D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5457B-3220-457B-9297-C9E9FF5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8AD4C-FC83-47A8-B1E2-136060C7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E165B-7478-41FF-942C-EBB51EB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73696-6008-483F-92C4-B8CA45C3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A949B5-FF76-4D1A-B2D8-1838E796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C6F085-26FA-4A53-A84A-6E37ACF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E2C-14BD-4E6A-BBEA-6FE05CEB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177DF-15F4-4874-8A23-33FA5DF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A1AE4-874D-40C3-8AD4-2A6BAD8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13170-C898-4622-929E-B993AF7D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F08FA-1AA4-4322-92C1-E23C01DA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BB7BE-0946-439F-8495-3A968D99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DAF-710D-43A2-A21D-425759F5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552F-BB7C-4B00-9DCB-6321B32326FE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82C9-9988-4D8D-B90A-8E5BF1DD163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7D87-B4C7-4CFB-9F69-41600EF735A3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BFE-D048-4BBC-8290-176118C4E33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98E-A6D8-4D1D-BD02-04EACB316A65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AFFB-A5DF-4844-AAF8-515FCF26B8BA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B1E-4BE8-4F13-9CC2-DA6536B9D21D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1438200" y="249120"/>
            <a:ext cx="7156440" cy="60912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0" y="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2" action="ppaction://hlinksldjump"/>
              </a:rPr>
              <a:t>Auto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9">
            <a:hlinkClick r:id="rId3" action="ppaction://hlinksldjump"/>
          </p:cNvPr>
          <p:cNvSpPr/>
          <p:nvPr/>
        </p:nvSpPr>
        <p:spPr>
          <a:xfrm>
            <a:off x="0" y="5716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4" action="ppaction://hlinksldjump"/>
              </a:rPr>
              <a:t>Desc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0"/>
          <p:cNvSpPr/>
          <p:nvPr/>
        </p:nvSpPr>
        <p:spPr>
          <a:xfrm>
            <a:off x="0" y="257184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5" action="ppaction://hlinksldjump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1"/>
          <p:cNvSpPr/>
          <p:nvPr/>
        </p:nvSpPr>
        <p:spPr>
          <a:xfrm>
            <a:off x="0" y="32860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d2611c"/>
                </a:solidFill>
                <a:uFillTx/>
                <a:latin typeface="Calibri"/>
                <a:hlinkClick r:id="rId6" action="ppaction://hlinksldjump"/>
              </a:rPr>
              <a:t>Th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0" y="1214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0" y="19288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1"/>
          <p:cNvSpPr/>
          <p:nvPr/>
        </p:nvSpPr>
        <p:spPr>
          <a:xfrm>
            <a:off x="500040" y="5643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nd slide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1298520" y="249120"/>
            <a:ext cx="7564320" cy="11098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utopilot meaning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  navigational device that automatically kee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ships, planes and spacecraft  on a steady course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Picture 6" descr="C:\Program Files\Microsoft Office\Media\CntCD1\Photo1\j0178707.jpg"/>
          <p:cNvPicPr/>
          <p:nvPr/>
        </p:nvPicPr>
        <p:blipFill>
          <a:blip r:embed="rId2"/>
          <a:srcRect l="2972" t="22268" r="13691" b="15390"/>
          <a:stretch/>
        </p:blipFill>
        <p:spPr>
          <a:xfrm>
            <a:off x="4429080" y="4143240"/>
            <a:ext cx="3571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Descend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pass from a higher to lower place ; to mov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downwards; to come down in anyway e.g. falling 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plunge downwards (the opposite to ascen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Rectangle 3" descr=""/>
          <p:cNvPicPr/>
          <p:nvPr/>
        </p:nvPicPr>
        <p:blipFill>
          <a:blip r:embed="rId1"/>
          <a:stretch/>
        </p:blipFill>
        <p:spPr>
          <a:xfrm>
            <a:off x="646200" y="414360"/>
            <a:ext cx="7211880" cy="1109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C:\Program Files\Microsoft Office\Media\CntCD1\ClipArt1\j0196234.wmf"/>
          <p:cNvPicPr/>
          <p:nvPr/>
        </p:nvPicPr>
        <p:blipFill>
          <a:blip r:embed="rId2"/>
          <a:stretch/>
        </p:blipFill>
        <p:spPr>
          <a:xfrm rot="4377600">
            <a:off x="5268600" y="4641480"/>
            <a:ext cx="22971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adar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A device that tells you the position and speed of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objects like cars, ships and planes by sending out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adio wa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Rectangle 3" descr=""/>
          <p:cNvPicPr/>
          <p:nvPr/>
        </p:nvPicPr>
        <p:blipFill>
          <a:blip r:embed="rId1"/>
          <a:stretch/>
        </p:blipFill>
        <p:spPr>
          <a:xfrm>
            <a:off x="2152800" y="182520"/>
            <a:ext cx="6411600" cy="1109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Program Files\Microsoft Office\Media\CntCD1\Animated\j0234742.gif"/>
          <p:cNvPicPr/>
          <p:nvPr/>
        </p:nvPicPr>
        <p:blipFill>
          <a:blip r:embed="rId2"/>
          <a:stretch/>
        </p:blipFill>
        <p:spPr>
          <a:xfrm>
            <a:off x="4786200" y="428616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C:\Program Files\Microsoft Office\Media\CntCD1\ClipArt6\j0290304.wmf"/>
          <p:cNvPicPr/>
          <p:nvPr/>
        </p:nvPicPr>
        <p:blipFill>
          <a:blip r:embed="rId1">
            <a:lum bright="70000" contrast="-70000"/>
          </a:blip>
          <a:srcRect l="0" t="0" r="21874" b="41695"/>
          <a:stretch/>
        </p:blipFill>
        <p:spPr>
          <a:xfrm>
            <a:off x="0" y="135720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285840" y="1642680"/>
            <a:ext cx="8300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rust mean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rust is a mechanical force generated  by engines 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move the aircraft through the 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0" name="Rectangle 3" descr=""/>
          <p:cNvPicPr/>
          <p:nvPr/>
        </p:nvPicPr>
        <p:blipFill>
          <a:blip r:embed="rId2"/>
          <a:stretch/>
        </p:blipFill>
        <p:spPr>
          <a:xfrm>
            <a:off x="1792440" y="324000"/>
            <a:ext cx="66132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C:\Program Files\Microsoft Office\Media\CntCD1\ClipArt1\j0196068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00040" y="1071720"/>
            <a:ext cx="7773840" cy="4493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Flap 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e flaps are positioned at the back of a plane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change the direction and the height of th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Rectangle 3" descr=""/>
          <p:cNvPicPr/>
          <p:nvPr/>
        </p:nvPicPr>
        <p:blipFill>
          <a:blip r:embed="rId2"/>
          <a:stretch/>
        </p:blipFill>
        <p:spPr>
          <a:xfrm>
            <a:off x="2073240" y="396720"/>
            <a:ext cx="5589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4"/>
          <p:cNvSpPr/>
          <p:nvPr/>
        </p:nvSpPr>
        <p:spPr>
          <a:xfrm>
            <a:off x="5143680" y="3429000"/>
            <a:ext cx="2500200" cy="297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62578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Launch defini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send into the  air e.g.. to launch a rocke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o start or push of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Return to glossa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Rectangle 3" descr=""/>
          <p:cNvPicPr/>
          <p:nvPr/>
        </p:nvPicPr>
        <p:blipFill>
          <a:blip r:embed="rId2"/>
          <a:stretch/>
        </p:blipFill>
        <p:spPr>
          <a:xfrm>
            <a:off x="1292400" y="324000"/>
            <a:ext cx="6619680" cy="1108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C:\Program Files\Microsoft Office\MEDIA\CAGCAT10\j0215086.wmf"/>
          <p:cNvPicPr/>
          <p:nvPr/>
        </p:nvPicPr>
        <p:blipFill>
          <a:blip r:embed="rId3"/>
          <a:stretch/>
        </p:blipFill>
        <p:spPr>
          <a:xfrm>
            <a:off x="5572080" y="3571920"/>
            <a:ext cx="171468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3:44:49Z</dcterms:created>
  <dc:creator>Education</dc:creator>
  <dc:description/>
  <dc:language>en-US</dc:language>
  <cp:lastModifiedBy>Education</cp:lastModifiedBy>
  <dcterms:modified xsi:type="dcterms:W3CDTF">2009-07-28T04:14:01Z</dcterms:modified>
  <cp:revision>28</cp:revision>
  <dc:subject/>
  <dc:title>Slide 1</dc:title>
</cp:coreProperties>
</file>